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460-4222-45DE-8B24-DCD61C65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686-0061-479C-BBDB-E1C64C66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9768A-08EC-41CE-B4F7-6F68AD8B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4FB08-B06F-4CFD-AC83-6AB5B604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DA869-F09B-42CA-A11F-BED2A1A4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3FE19-6CFB-40E4-840C-46BB0F22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5022A-3D10-4A65-A3E0-E62DC04D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28D93-4790-4C6E-A538-0360FA99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90112-DCB4-4569-A782-6EFDB4CE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7B7AD-3186-40DA-83B9-11161E04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B1639-D2CF-477C-9FD6-B21C5569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7AD-8EA1-40FE-9829-D839F03B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CF5-B089-4FD3-B281-864B8273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5589-CE12-46CA-BFAC-6872F775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6A8F-5BB6-4FA0-9C73-BA239005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0F80-1821-4539-AFA8-ED2A5D62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801B-834E-4B56-9781-8BAB3523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DC25-6692-4790-AEFA-7B1C9431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BBAE-0052-4950-90E0-48B40E51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61E2-D75C-4AD0-8DD8-34F1A380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83D-CD51-46F0-A25F-53FFCFC3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5028-7E75-42D8-89C9-E6C0597C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EA0C-F9C2-4B7B-B5AF-19137B3E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B50D-2FF2-4A9A-B0CF-B7C84020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9D58-A185-41DB-BEF7-09F7D58C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DB51-CC44-4FF1-9AC6-ABBCA1AB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CC77-85FE-4B3D-889D-5AA947F3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AEA8-3272-4BE8-81D9-E7DDCF34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26EE6-8B34-47C1-9206-B32EF5F5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43DBA-5F1C-4399-BE79-A2FB8398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A9F7-715B-4B40-8EC8-76555736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A99-8791-4E65-8CA2-419972D6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A68B-3277-4C8F-95CD-E2E20F61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309D6-5256-4FBA-9F95-2D8EB0C9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DD03-4F3B-45B4-AB39-0ECF83E7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03C1-C5A3-4AE9-84FD-9E7B0752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D04F0-953C-4459-817C-37FD4865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AF16-9DAE-4A07-9035-60088553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5EC0-3288-429D-A625-91DB116C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EFFBD-EC0D-4C23-8454-3E824F10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32DB7-4FC7-40EA-A3D9-12BF40D7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1AA0E-425E-48E7-B614-AEC829D9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8AB-A505-4AAB-B402-47C76C42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58CC-A946-4F35-81EA-67FF2F77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236C-8EED-477D-859C-71F16094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F3B7E-0EE6-4654-AA76-19C2EE23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4F4E5-6C66-4D12-BA84-037D42D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DFC7-72AC-4329-8C33-84398E17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6CE2-4941-4475-90F1-9C94A1E7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BD4B5-F707-4858-8E04-48C73CED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DFA4C-E6CA-4C03-BB81-2591EE91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6AC2F-62F5-4CBD-9B47-C95CB41C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A1926-AE00-40A9-9BE7-208FA86D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854-FC81-41EF-8677-EEE27D07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D7970-03EA-4C45-B03B-08D29C3D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DCCE2-FF3E-404E-9E0F-DEC3F539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517C2-D562-4FFF-A4EB-52E7A912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0E43C-5C1A-45FA-8545-46F1999B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78AE2-00A8-4077-9AC5-E1B77824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E9DB8-EA77-4110-A0F7-E4378678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3BDE1-A3E1-475C-ADAB-42C7E5B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66E7F-7658-4B60-AD01-E6DB27E3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AE423-65DA-48CF-8AC8-5D92314A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E5A81-B367-49DF-AC43-0CC0F275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09F-5B3A-4B82-B74D-E44A9968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37461-BBCE-443A-ADE7-97080DE0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DF061-5458-4817-9ED6-7ED01350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84378-9768-4C8E-B64C-BF1B5C9C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E7596-F7E0-4FAF-9691-12BE9AED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F38FC-9FF5-4A00-8A50-712A4B27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48CDE-ABEE-468E-B831-2DB7429B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F58D8-F50C-41FA-933F-F10DDDC9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32C71-02D3-4925-B7AE-409CFC5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F808-BFCB-409B-BAE0-3DE2E866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6BB92-7A81-4D76-94B8-2C8412F7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AC0-1812-4FD7-865B-7E78CB50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7F8A3-AF25-4FC9-B149-CD901899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43274-74C1-435C-8377-EA19F282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3CF6B-8773-41D5-A782-B542E1C2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937C6-8278-4DFE-ACB4-CB63DC6E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A1636-039D-446C-AD0A-F48AAD78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D605D-597B-41E9-A7ED-2BDEEF63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872F1-6B5B-4140-9BFE-BA5C32ED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4824B-78BE-4EED-9351-408A6CB0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40F43-D823-4F34-9356-8296244D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6CD9B-92A3-4255-A863-15D40B9E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304F-17B8-417B-949C-EFAA2103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72077-5D4B-4B12-BC2B-00114630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C08C7-B6CF-4C30-88A3-81A26697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DA2F0-CF16-4338-A3EB-D30EC9E7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4E93B-7069-4785-926C-81026808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60333-526B-4B50-A40B-B4FCC390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D925E-0A49-4C36-B548-FDF7803A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E931B-DEC3-4013-A3E0-2ABADBCC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01205-F7CC-497C-9FEA-A6FCD6D8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0D29A-55F2-4D44-8C12-059C3DA3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DBAC1-0A0A-4242-B2AB-435FCD77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99F-4438-4A51-A1C0-E890E46C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BBEC5-1581-43B1-AEBF-0231A51F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116E4-DDC7-48E7-8863-835DB446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CAA10-D20A-4182-9A61-F5BC4B7E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8BFD8-E484-4C47-AA20-5C035816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C91EC-EFBF-4AD6-A1A1-416B7DDF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B54B2-973A-486D-AC58-C192DAFF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54E19-F611-4052-94A6-4548A09C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B3C04-048F-409D-A2C8-238A98E9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BCF77-F6E6-444D-9A10-5AE86C9A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CCD3B-9817-4B66-92C0-9CD781FB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A95E-8265-4820-B73F-F0119B2FE9B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74A5-6E0C-4B88-AF94-933ACF584F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7B48-0F33-4F8B-9A06-3FEDDF8FEA9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93B6-CB7F-4AA0-8415-281DA3B2495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5A3-A483-4307-B4B9-D6AAF3F7FB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F732-35E7-4A8A-B75C-FA17650C8B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0EB2-5A96-4AC6-9766-7EA4AA94E92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4A64-9E8E-427A-BAC1-A17A55F7724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E90F-4352-4186-AC29-D215C672C16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ecteurs_somme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2"/>
          <p:cNvSpPr/>
          <p:nvPr/>
        </p:nvSpPr>
        <p:spPr>
          <a:xfrm>
            <a:off x="285840" y="71424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Как поделиться вектором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1071720" y="56437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еник 8 «а» класса СШ №25 Мажутко Вален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http://upload.wikimedia.org/wikipedia/commons/3/3b/Vecteurs_somm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1928880"/>
            <a:ext cx="32828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85680" y="353880"/>
            <a:ext cx="889308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3760"/>
            <a:ext cx="868680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75240" indent="40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- это направленный прямолинейный отрезок, т. е. отрезок, имеющий определенную длину и определенное направление. Если А — начало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, а В - его конец, то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обозначается символом АВ или 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4" descr="рисунок 1"/>
          <p:cNvPicPr/>
          <p:nvPr/>
        </p:nvPicPr>
        <p:blipFill>
          <a:blip r:embed="rId2"/>
          <a:stretch/>
        </p:blipFill>
        <p:spPr>
          <a:xfrm>
            <a:off x="2786040" y="4214880"/>
            <a:ext cx="28576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усть а и b— два произвольных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 Возьмем произвольную точку О и построим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А=а. От точки А отложим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В = b . Вектор ОВ, соединяющий начало первого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с концом второго, называется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уммой векторов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 и b :О B=а+b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http://www.znannya.org/images/math/lect/lect1-04-pic/lect1-3.jpg"/>
          <p:cNvPicPr/>
          <p:nvPr/>
        </p:nvPicPr>
        <p:blipFill>
          <a:blip r:embed="rId2"/>
          <a:stretch/>
        </p:blipFill>
        <p:spPr>
          <a:xfrm>
            <a:off x="5214960" y="1571760"/>
            <a:ext cx="2924280" cy="885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ttp://www.znannya.org/images/math/lect/lect1-04-pic/lect1-4.jpg"/>
          <p:cNvPicPr/>
          <p:nvPr/>
        </p:nvPicPr>
        <p:blipFill>
          <a:blip r:embed="rId3"/>
          <a:stretch/>
        </p:blipFill>
        <p:spPr>
          <a:xfrm>
            <a:off x="5286240" y="3000240"/>
            <a:ext cx="2952720" cy="1047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http://www.znannya.org/images/math/lect/lect1-04-pic/lect1-5.jpg"/>
          <p:cNvPicPr/>
          <p:nvPr/>
        </p:nvPicPr>
        <p:blipFill>
          <a:blip r:embed="rId4"/>
          <a:stretch/>
        </p:blipFill>
        <p:spPr>
          <a:xfrm>
            <a:off x="5357880" y="4714920"/>
            <a:ext cx="3190680" cy="1028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7"/>
          <p:cNvSpPr/>
          <p:nvPr/>
        </p:nvSpPr>
        <p:spPr>
          <a:xfrm>
            <a:off x="285840" y="1714680"/>
            <a:ext cx="44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равило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285840" y="3000240"/>
            <a:ext cx="485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равило параллел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500040" y="478620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ложение трех векторов а, b и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3760"/>
            <a:ext cx="868680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д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азностью векторов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 и b понимается вектор с=а-b такой, что b+с=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http://www.znannya.org/images/math/lect/lect1-04-pic/lect1-6.jpg"/>
          <p:cNvPicPr/>
          <p:nvPr/>
        </p:nvPicPr>
        <p:blipFill>
          <a:blip r:embed="rId2"/>
          <a:stretch/>
        </p:blipFill>
        <p:spPr>
          <a:xfrm>
            <a:off x="785880" y="3143160"/>
            <a:ext cx="6967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22400" y="23760"/>
            <a:ext cx="9028080" cy="14875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4600" indent="537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тметим, что в параллелограмме, построенном на векторах а и b одна направленная диагональ является суммой векторов а и b , а другая — разность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2" descr="http://www.znannya.org/images/math/lect/lect1-04-pic/lect1-7.jpg"/>
          <p:cNvPicPr/>
          <p:nvPr/>
        </p:nvPicPr>
        <p:blipFill>
          <a:blip r:embed="rId2"/>
          <a:stretch/>
        </p:blipFill>
        <p:spPr>
          <a:xfrm>
            <a:off x="1571760" y="3929040"/>
            <a:ext cx="5537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ка я отвечал на вопрос «Как поделится вектором?», я узнал, как складывать и вычитать векторы. Какими правилами можно пользоваться, чтобы делать это быстро. И, конечно же, теперь я точно знаю как поделится вектором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4:40:37Z</dcterms:created>
  <dc:creator>26534</dc:creator>
  <dc:description/>
  <dc:language>en-US</dc:language>
  <cp:lastModifiedBy>26534</cp:lastModifiedBy>
  <dcterms:modified xsi:type="dcterms:W3CDTF">2010-04-30T04:27:14Z</dcterms:modified>
  <cp:revision>10</cp:revision>
  <dc:subject/>
  <dc:title>Слайд 1</dc:title>
</cp:coreProperties>
</file>